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benefits of electronic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from home/ on holidays / during absences /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building partners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t during other strands/top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79AE-0D94-4836-A838-77DE4C453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864E-6FCF-491D-92D9-E0EF2BD8C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7D50-BE57-4C38-B2F2-C5134E229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8612-1D05-4001-B968-C610A4864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063B-E06E-4E9F-BDB6-0B493369D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3A9D-E567-44A4-B4F9-AB81F4FC5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19DF-698B-4515-BDBD-1B0A69848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14F9-3A33-4F56-B5AF-2F31649BD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5A3A-E84D-4F49-AA5F-785DADFEF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7FDA-12E2-4F34-8D7D-8215F2164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007D-18E5-48E1-A119-6ED00F52D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C9A3-F63B-44E3-BAB5-32AC660F7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0A56-124B-4DB7-B1A3-A730775B65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ains-camppp.wikispaces.com/file/view/Learning%2BWalls%2BArticle.pdf" TargetMode="External"/><Relationship Id="rId2" Type="http://schemas.openxmlformats.org/officeDocument/2006/relationships/hyperlink" Target="http://gains-camppp.wikispaces.com/file/view/Learning%2BWalls%2BArticle.pd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ame.on.ca/CLIPS/" TargetMode="External"/><Relationship Id="rId2" Type="http://schemas.openxmlformats.org/officeDocument/2006/relationships/hyperlink" Target="http://www.edugains.ca/newsite/math2/index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40CC-0061-4B9F-ADFB-5DCF3F3568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T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portfol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learning w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591-F2EC-441C-9714-D28FCDD990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888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7C5-B11A-4FF4-9561-99E16849D3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athLearningWall"/>
          <p:cNvPicPr/>
          <p:nvPr/>
        </p:nvPicPr>
        <p:blipFill>
          <a:blip r:embed="rId1"/>
          <a:stretch/>
        </p:blipFill>
        <p:spPr>
          <a:xfrm>
            <a:off x="2438280" y="2041560"/>
            <a:ext cx="620100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5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98720" y="1752480"/>
            <a:ext cx="70689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ed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ins-camppp.wikispaces.com/file/view/Learning%2BWalls%2BArtic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6CF-44A6-46B5-9EF0-046700663D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733920" y="1371600"/>
            <a:ext cx="4800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4648320"/>
            <a:ext cx="8229600" cy="146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370-7688-4792-A732-9CB0D192E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A18F-B738-4650-BB37-0FA05A0A2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 rot="1060800">
            <a:off x="5618160" y="740880"/>
            <a:ext cx="2890800" cy="3329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49400" y="144792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 assessment purposes, a portfolio can be defined as "a purposeful collection of student performances that exhibits a student's effort, progress and achievement over a period of ti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Hibbard et al, 1996, p. 18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Expert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groups of 5 (this is your home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from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s meet with ones, twos with tw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your expert group read and discusses assigned section from the Saskatchewan Professional Development Uni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rtfolios: More Than Just a Folder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9D9-9728-48F8-8289-9D79AEAB98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Home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s return to hom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D913-6209-4A67-8666-F56682171D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816800" y="2140200"/>
            <a:ext cx="3575520" cy="3617640"/>
            <a:chOff x="4816800" y="2140200"/>
            <a:chExt cx="3575520" cy="3617640"/>
          </a:xfrm>
        </p:grpSpPr>
        <p:sp>
          <p:nvSpPr>
            <p:cNvPr id="103" name="Right Arrow Callout 4"/>
            <p:cNvSpPr/>
            <p:nvPr/>
          </p:nvSpPr>
          <p:spPr>
            <a:xfrm rot="809400">
              <a:off x="4955760" y="3015360"/>
              <a:ext cx="1341000" cy="1351440"/>
            </a:xfrm>
            <a:prstGeom prst="rightArrowCallout">
              <a:avLst>
                <a:gd name="adj1" fmla="val 25197"/>
                <a:gd name="adj2" fmla="val 25195"/>
                <a:gd name="adj3" fmla="val 25000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n Arrow Callout 5"/>
            <p:cNvSpPr/>
            <p:nvPr/>
          </p:nvSpPr>
          <p:spPr>
            <a:xfrm rot="809400">
              <a:off x="6167160" y="2277720"/>
              <a:ext cx="1341000" cy="1351440"/>
            </a:xfrm>
            <a:prstGeom prst="downArrowCallout">
              <a:avLst>
                <a:gd name="adj1" fmla="val 25002"/>
                <a:gd name="adj2" fmla="val 25000"/>
                <a:gd name="adj3" fmla="val 25195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eft Arrow Callout 6"/>
            <p:cNvSpPr/>
            <p:nvPr/>
          </p:nvSpPr>
          <p:spPr>
            <a:xfrm rot="809400">
              <a:off x="6912000" y="3484800"/>
              <a:ext cx="1341000" cy="1351440"/>
            </a:xfrm>
            <a:prstGeom prst="leftArrowCallout">
              <a:avLst>
                <a:gd name="adj1" fmla="val 25197"/>
                <a:gd name="adj2" fmla="val 25195"/>
                <a:gd name="adj3" fmla="val 25000"/>
                <a:gd name="adj4" fmla="val 649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Up Arrow Callout 7"/>
            <p:cNvSpPr/>
            <p:nvPr/>
          </p:nvSpPr>
          <p:spPr>
            <a:xfrm rot="809400">
              <a:off x="5689800" y="4268520"/>
              <a:ext cx="1341000" cy="1351440"/>
            </a:xfrm>
            <a:prstGeom prst="upArrowCallout">
              <a:avLst>
                <a:gd name="adj1" fmla="val 25002"/>
                <a:gd name="adj2" fmla="val 25000"/>
                <a:gd name="adj3" fmla="val 25195"/>
                <a:gd name="adj4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20920" y="152280"/>
            <a:ext cx="59230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evernote.com/schoo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tructions for creating a portfolio using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blog.evernote.com/2012/02/28/how-to-create-a-portfolio-with-evernote-education-seri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CD8E-780F-42A0-9DD1-94ACBF7964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ilding a Learning Wall/Portfoli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may work electronically or 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sible op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Prezi / Pap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Math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pdate/Beautify our class Learning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ther…i.e., explore CLIPS, Math GAINS si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C5DF-5B6B-401B-8D9D-2BEDD314B4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ulate and explore each oth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brief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038-49F7-4B5C-BC97-72B835CFE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6512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as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the Meaning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S/Epractice and the Math GAIN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Discussion and low key working period on Portfolios and 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698B-7CA1-4F6D-BAAD-44580A42B9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yground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has just build a new playground.  ¾ of the playground is for field activities, and the rest of the yard is paved.  ½ of the paved area is for hopscotch squares.  How much of the playground is designated for hopsco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60BA-6D91-4EDA-A9A1-FDCDD0A816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 of the Meaning of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 group will pick one of the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consolidat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11x17 poster that illustrates our best thinking at this point in tim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8F4D-1F16-4069-8255-DB18B01A42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6351-D196-4222-BA59-4DFCE71806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PS and Math GAI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h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1396-12D8-4618-AF94-A83AE55E67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Assessment of Leaning as a continuous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learning walls and portfolios as an opportunity for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portfolios and learning wall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293F-8D0F-4732-89A8-94D27E8140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B11A-357C-433A-AF62-D970D166D0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ide 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wo circles - one insid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on the inside face participants in the outs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in the outside circle will rotate according to facilitato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the prompt with the person acros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D999-FC4B-403C-820C-221B54C560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nut 4"/>
          <p:cNvSpPr/>
          <p:nvPr/>
        </p:nvSpPr>
        <p:spPr>
          <a:xfrm>
            <a:off x="6705720" y="304920"/>
            <a:ext cx="1218960" cy="1218960"/>
          </a:xfrm>
          <a:custGeom>
            <a:avLst/>
            <a:gdLst/>
            <a:ahLst/>
            <a:rect l="l" t="t" r="r" b="b"/>
            <a:pathLst>
              <a:path w="1219200" h="1219200">
                <a:moveTo>
                  <a:pt x="0" y="609600"/>
                </a:moveTo>
                <a:cubicBezTo>
                  <a:pt x="0" y="272927"/>
                  <a:pt x="272927" y="0"/>
                  <a:pt x="609600" y="0"/>
                </a:cubicBezTo>
                <a:cubicBezTo>
                  <a:pt x="946273" y="0"/>
                  <a:pt x="1219200" y="272927"/>
                  <a:pt x="1219200" y="609600"/>
                </a:cubicBezTo>
                <a:cubicBezTo>
                  <a:pt x="1219200" y="946273"/>
                  <a:pt x="946273" y="1219200"/>
                  <a:pt x="609600" y="1219200"/>
                </a:cubicBezTo>
                <a:cubicBezTo>
                  <a:pt x="272927" y="1219200"/>
                  <a:pt x="0" y="946273"/>
                  <a:pt x="0" y="609600"/>
                </a:cubicBezTo>
                <a:close/>
                <a:moveTo>
                  <a:pt x="304800" y="609600"/>
                </a:moveTo>
                <a:cubicBezTo>
                  <a:pt x="304800" y="777936"/>
                  <a:pt x="441264" y="914400"/>
                  <a:pt x="609600" y="914400"/>
                </a:cubicBezTo>
                <a:cubicBezTo>
                  <a:pt x="777936" y="914400"/>
                  <a:pt x="914400" y="777936"/>
                  <a:pt x="914400" y="609600"/>
                </a:cubicBezTo>
                <a:cubicBezTo>
                  <a:pt x="914400" y="441264"/>
                  <a:pt x="777936" y="304800"/>
                  <a:pt x="609600" y="304800"/>
                </a:cubicBezTo>
                <a:cubicBezTo>
                  <a:pt x="441264" y="304800"/>
                  <a:pt x="304800" y="441264"/>
                  <a:pt x="304800" y="6096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8-22T20:24:40Z</dcterms:modified>
  <cp:revision>41</cp:revision>
  <dc:subject/>
  <dc:title>&lt;Title&gt;</dc:title>
</cp:coreProperties>
</file>